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4A46-8608-4DD7-986C-C4C4EBAF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FAC1-3E23-4E7B-8E81-26FA3003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9486D-2156-414F-94E5-D5F6BD6E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1ACE-560A-4C58-B942-A93B2E3D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34C2-7E40-465C-A4D2-F4A3D2D5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0386-21DD-4FC2-9777-62807DB7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95CB-DF3F-4E17-A8CB-60B22F86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9FE-9F3C-47E6-B867-A0BD9531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59EB-5533-4F14-8B1E-626D172E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6AAD-2A26-4EDD-A6F7-D89D84FB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2FA-4BB0-4CBA-82D3-23A813B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F12F-F0F4-4543-B905-5315D372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E83A2-2E97-4781-96E5-D620BA43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9E05-DE77-410C-A3BA-64AC676D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6FBD-737B-463B-8338-E5274432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C930-28F1-47F7-A837-07952A90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658040"/>
            <a:ext cx="264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9AC2-BC9F-45F6-A1A5-8FD7FCF3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B605-C100-459C-A993-8C7B95B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A0843-FE23-4D2E-BBAE-B4CA6867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A8B1B-B620-4D20-9E7A-BC879B9B5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3DB7-CFDD-4BC8-8E0F-C52D438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B5A8-4362-408C-9FDF-D968DD60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65804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407C-BA6A-49A0-9A22-DA5AAAD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658040"/>
            <a:ext cx="82296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337C-CE48-4A0C-A806-AA474946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BD917-EB76-4E44-9506-903ACE21C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D59-CADE-4DBE-97D1-24F29DF326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hapter 9</a:t>
            </a:r>
            <a:br>
              <a:rPr sz="6000"/>
            </a:b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NATION BUILDING AND NATIONIONALISM</a:t>
            </a:r>
            <a:endParaRPr b="1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Settlement to the Mississippi:  Settlers Move I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40, over one-third of U.S. population lived west of the Appalachia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ulators sold land parcels to settlers on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uatters and Preem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41—Congress approved permanent right of pree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settlers engaged in commercial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d to pay off deb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ed them to buy consumer goods they did not produ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eople and Culture of the Frontier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st settled to escape overpopulation, rising land prices, worn-out soi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ttlers brought existing culture with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yth: self-reliant family farm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lity: cooperation and community effor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ny families moved frequently in W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aham Lincoln’s family moved three times between 1816-18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 was less attachment to land than other rur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sterners saw West as untam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James Fennimore Cooper’s 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Leatherstocking T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A Revolution in Transport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itive land transportation in the East was offset by shipping via the coastal waterw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the War of 1812, political leaders recognized the need to improve the country’s transportatio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leaders like Madison and Calhoun called for “internal improvement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ual federal role less than anticipated in those calls for internal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oads and Steamboa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 Road from Cumberland, Maryland, eventually to Vandalia, Illino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pikes—privately owned toll roads chartered by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ds useful for travelers, but too expensive for transportation of bulk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st efficient for bulk cargo 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Roads and Steamboat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of rivers encouraged economic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boats transported downriver in early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s transported upriver after 18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river capabilities reduced c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s catered to passengers with luxury hotel atmosp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amboat accidents stimulated Ante-Bellum Congressional effort to establish safety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Canal Boo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anals needed to link West with coa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Erie Canal, 182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ew York Governor Dewitt Clinton got state fun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linked New York City to Great Lakes at Buffalo, through Alban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cut east-west transportation costs dramaticall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nal stimulated commercial growth of New York C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ther states followed until 1840s, when canal deemed unprofitable, but usefu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mergence of a Market Economy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ls cut shipping expenses for western farmers and eastern manufactu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amboats on the rivers also reduced shipping costs and stimulated commercial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Beginning of Commercial Agricultur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, widely available land and marketing revolution spurred profitable commercial fa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er transportation costs meant greater income for the fa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le to distant markets involved farmers in a complex system of 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timulated specializ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 produced w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South produced co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Beginning of Commercial Agriculture: Rise of King Cott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cotton demand from New England textile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i Whitney and the cotton 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, fertile land available in old South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permitted large-scale 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mmerce and Banking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Old style farmer sold crop directl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ew style farmer sold to local merchant; local merchant sold to final marke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ystem required farmers and local merchants to have credi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e of credit stimulated banking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deral government issued too little money, private banks issued bank not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tate banks increased after 181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816—Second Bank of the United States created to check state bank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ank’s easy credit sparked Panic of 1819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xpansion and Migra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perspective shifted from Europe to West after 18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sh-Bagot Agreement, 181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cognized Canada as British; British agreed not to invade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glo-American Convention of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llel boundary between U.S. and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int occupation of Ore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ent held in part by the English, Spanish, and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arly Industrialis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methods but innovative financing through “putting out”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ting-out”—merchants delivered raw materials for farm families; artisans processed these mate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d not disrupt agricultural lif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1815, increased demand stimulated mass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xtile industry in New England led development of factor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Early Industrialism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rise of textile factories, New England urban economy rested on overseas t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 politicians made a shift from supporting export-favorable low tariffs to high protective tar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ndustries adopted factory model by 1840s and 18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not yet an industrial country, but was evolving national marke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Politics of Nation Building After the War of 1812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a of Good Feelings,” 1816-18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s a one-par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groups no longer took differences into the political arena; public interest in politic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heme of public policy in this period: “awakening nationalism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Republicans in Power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ists died as national party after 1812, but Republicans adopted some of their id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Clay’s American System, 18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tariffs to protect industries that sprang up in embargo and w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Bank of the U.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aid for internal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d for internal improvements controvers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al conflict over who benefi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dison, Monroe saw constitutional confli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ion of 1816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27715" r="0" b="4561"/>
          <a:stretch/>
        </p:blipFill>
        <p:spPr>
          <a:xfrm>
            <a:off x="304920" y="3048120"/>
            <a:ext cx="8534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Monroe as Presiden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dison picked fellow Virginian James Monroe as his successor in 18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roe sought national harmony, an “era of good feel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k no action in Panic of 1819, believed president above such ma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no leadership controversy over Missou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rs accepted Monroe’s view of leadership, he is re-elected in 18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Election of 1820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25027" r="0" b="6131"/>
          <a:stretch/>
        </p:blipFill>
        <p:spPr>
          <a:xfrm>
            <a:off x="304920" y="3048120"/>
            <a:ext cx="84963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:  The Issues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17—Missouri applied for statehood as 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believed South over-represented in House of Representatives, despite their own decisive majo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lmadge Amendment called for gradual elimination of slavery if Missouri admitted, passes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wished to preserve balance of power between slave states and free st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:  The Solution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ouri admitted as slav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e separated from Massachusetts, admitted as free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banned elsewhere in Louisiana Purchase above the latitude of 3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'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souri controversy exposed deep rift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fferson called it “a fire bell in the ni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issouri Compromise, 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1820-1821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00100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tending the Boundaries: Taking Spanish Land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Florida annexed, 1810-18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y of State John Quincy Adams’s goal was reduction of Spanish hol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Seminole War, 181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Andrew Jackson occupied east Flori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kened Spain accepted Adams-Onis Trea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 got all Flori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-Spanish boundary to Pacific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.S. paid $5 million in Spanish debts to America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ostwar Nationalism and the Supreme Court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ohn Marshall Chief Justice, 1801-1835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st dominant chief justice ev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berty and property rights were above attainment of political, social, and economic equality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ole of court to enable economic growth by protecting individuals and businesses from interference by state legislatu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ourt should also provide federal government more power to encourage economic growth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ostwar Nationalism and the Supreme Court: The Key Cas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artmouth College v. Woodwar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ters granted by states are eternal contr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ens the ability of states to regulate business, allows corporation to have limited public respo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cCulloch v. Marylan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1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d powers doct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es cannot tax or regulate federal agen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wer to tax is power to destr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bbons v. Ogden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18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regulation of interstate commerce trumps state reg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ostwar Nationalism and the Supreme Court: Summati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y of Marshall’s Court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adened powers of federal government at the expense of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growth of a national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emplified main nationalist trend of the period: federal government should promote growth of prosperous, nationwide capitalis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ism in Foreign Policy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The Monroe Doctrin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sympathized with Latin American re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recognized independence of Latin American countries after Adams-Onis Treaty appro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d Alliance” of Europe saw Latin American revolts as democratic challenges to authoritarian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d Alliance pushed Spain to re-claim 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Britain wanted independent Latin American countries with ope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onalism in Foreign Policy: Monroe Doctrin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itain asked U.S. to cooperate to oppose Grand Alliance schemes for Latin Ame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roe persuaded by John Quincy Adams that U.S. alone must protect Latin American independe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onroe Doctrine, 182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opposed European expansion to the Western Hemisphe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.S. would not interfere in European affai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gely dismissed by Europea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gnified America’s new sense of independence and self-confidenc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Extending the Boundaries: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he Oregon Country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Jacob Astor and the American Fur Company in Oregon and St. Lo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ntain men” like Kit Carson and Jim Beckwourth roamed through Plains and Rockies, fueling romantic my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tary expeditions created impression that Plains were “great American desert” unfit for settl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orth America, 1819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447920"/>
            <a:ext cx="4921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Native American Societies Under Pressure</a:t>
            </a:r>
            <a:endParaRPr b="1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Civilized Tribes” (60,000 strong) controlled much of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, Chickasaw, Choctaw, Creek, and Semin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ed many ways of American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adapting, Native Americans seen as obstacles to sett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t Native American groups reacted differently to white encroach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The Cheroke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 largest of “Five Civilized Trib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Ross led move to accommodate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rokee became market economy farmers and plantation ow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lavery and discrimination against African Americans resulted from t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ed Constitution of Republican government in 182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oyah created alphabet for Cherokee language, 1821-2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The Seminol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smallest of “Five Civilized Trib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a combination of Florida natives with Creeks and escap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minole slavery was more payment of tribute than ownership of hum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Seminole War was example of Seminol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75"/>
              </a:spcBef>
              <a:buClr>
                <a:srgbClr val="ffff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r described as “a negro and not an Indian war”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Native American Societies Under Pressure: Indian Removal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government used deception, threats, and bribery to get Native Americans to cede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governments claimed jurisdiction over lands given to Native Americans by trea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Hawk’s War (1831-32) was last stand of Native Americans north of Ohio River and east of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30s, idea that Native Americans should be moved West even if they assimilated was dominant vi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9Z</dcterms:created>
  <dc:creator>CMU</dc:creator>
  <dc:description/>
  <cp:keywords/>
  <dc:language>en-US</dc:language>
  <cp:lastModifiedBy>Barbara Witmer</cp:lastModifiedBy>
  <cp:lastPrinted>2009-09-06T19:32:19Z</cp:lastPrinted>
  <dcterms:modified xsi:type="dcterms:W3CDTF">2007-02-01T19:44:23Z</dcterms:modified>
  <cp:revision>38</cp:revision>
  <dc:subject/>
  <dc:title>CHAPTER 9 NATIONALISM AND NATION BUILDING</dc:title>
</cp:coreProperties>
</file>